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056-F9C7-469B-900A-FA5DFFA4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965-CE65-482E-A868-DB1E9477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2AC-598F-4A3E-901D-4362374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3C3-7A9B-41DE-A684-C8EE7562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B19E-F3AE-4AED-9546-815708D5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671-804D-461B-A6D9-E7B506B0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E323-AA0F-4B21-813D-BD70F18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FF76-A3F7-45BE-A475-C6C622E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705F-7A2C-44A1-BB0A-364DBA41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5CE1-8680-493F-A432-A2B4C814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58E-651A-45F4-8B28-D087C51F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E57-FE48-45BE-92B7-3AB31F0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7C7B-0CBD-40AE-B464-1E8D2AA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33DE-ED6E-4FCA-80B6-FC68DC14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8C3-5FA1-4F3E-A723-74E4121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6CD-3F92-41C4-B172-D1C43403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1BAC-1278-4FB6-8402-789AE10A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F4E-F1F2-49E0-8CED-857E4E6F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CD1-6E6B-4116-83C2-898D968B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F4B-DD21-4527-AC31-EC11DFF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618-FB7C-48F7-9DFB-85AD62C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493-1DFE-4E04-9F86-2241BE3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ED8-4C34-46BC-8C3B-F1063C33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8EB-CA1B-43AA-8B0F-5AF3354A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2AF-5762-4C15-904A-6378989B2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C3D5-C16A-468E-85ED-E38A8DE98C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ЦЕЊИВАЊЕ ПЕРФОРМАНСИ ЗАПОСЛЕНИХ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685800" y="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оле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имају се у обзир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чите димен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е оцене с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стабил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ком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азли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змеђ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пора и перформан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уководиоци на топ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артнери (купци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кстерни оцењив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Концепт “360 степени”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јчеш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користи за оцену перформанси запослених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наџерским позиција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а перформанси од стра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ле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 истом хијерархијском нив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Циклус оцењивањ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ужина трај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једног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чет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циклуса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eedback интерв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Рангир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иректно ранг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нгирање на основу упарених пор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наметнуте дистрибу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ређење са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иста пожељних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наметнут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тоди и инструмент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Поређење са специфично дефинисаним стандар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афичка скала за о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бинована стандардна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ехника критичног инц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цен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прављање циљевима (MB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Balanced Scorec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ала за опсервацију понаш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Грешке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Грешка сужавања рас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ла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/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рог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цењ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нтралне тенд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Несвес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Фундментална грешка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тцењивање или прeцењивање ситуационих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репрезентати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поређење са запосленима са најбољим перформанс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сећ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ећања на екстремне догађа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когнитивне дисторз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убјективност због постојећих когнитивних шема оцењив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првог утис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на основу првог утиска добијају се оц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а егоцентричне а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грешка проистекла из идентификације оцењивача са запосленим чије перформансе се оцењу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вори грешака у оцењивањ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Намерне гре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тички процеси у организ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лационирање 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и политичке кул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зда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останак предубеђ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цењивањ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Дефинициј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 у којем се оцењује допринос запосленог остварењу организационих циљ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њивање перформанси је олакшано уколико је у питању структуриран процес који се понаваља у одређеним временским циклус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Димензије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 дименз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сла које могу би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мет оцењив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л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вант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штовање временских ро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на ефикас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треба за над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нтерперсонални утица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Значај оцен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форм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бијене у процесу оцене перформанси запослених имају неколико важних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унк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вој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дминистратив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билизаторс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окумент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фун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Личне карактеристик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зина одлучивања и логичког расуђ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ретање иниција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ност вербалне и невербалне комун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јалност и степен идентификације са организ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бле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рењу личних карактерис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ицај ситуацио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сервација личних каракте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хтева додатно објашњење запосленима шта треба да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гидност у кратком временском 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 Понашање запосл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ценат је на начину обављања по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инисање станд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Шта када су задовољени циљеви перформанси кроз различита понашањ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перформанс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II Резул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сновани су на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нтитатив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валитатив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казатеље је могуће квантификов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облематичне ситу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Како релативизовати утицај спољних фактора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збор оцењивач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епосредни руководио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имају добар увид у рад запосл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амооцењи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нформацио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е перцепције о захтевима по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огни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различита обрада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5040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фективна огранич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осећај страха и угроже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6:29Z</dcterms:modified>
  <cp:revision>148</cp:revision>
  <dc:subject/>
  <dc:title>Soft and Hard Skills Development: A Current Situation in Serbian Companies</dc:title>
</cp:coreProperties>
</file>